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602-CC5E-423C-93F1-5D2DDBF9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CF8-645B-4743-9206-E91A544D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331-E239-44A2-87C1-6BF2DED9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B3F-3123-4655-9DA5-E0884799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B23-F1F6-4FA9-8AB7-A64769A8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7B1-E56D-4C51-9BAE-3347D002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95D-586D-414B-818B-8F2BA015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9F2-6070-4F06-8C1E-91CB8B2F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B7A-9E07-49FB-9F53-AB685963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A0C-77B6-4C18-8CD2-9FAF21CD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049-2712-4EFA-9BDE-B9F1775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C59-7EA1-4557-8243-B129599D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1EEE-F81B-497D-9DDC-62A6CBDB54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7487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емья. Семейны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ценности, традиции и реликв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3280" y="4437000"/>
            <a:ext cx="35290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Гавронова Н.В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МБОУ «СШ№16 им. С. Ивано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г. Евпа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Республика К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>
            <a:off x="2050920" y="2133720"/>
            <a:ext cx="5185080" cy="179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1440" y="549360"/>
            <a:ext cx="40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00"/>
                </a:solidFill>
                <a:latin typeface="Arial"/>
              </a:rPr>
              <a:t>Семья – это важно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280" y="1268280"/>
            <a:ext cx="42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Семья – это сло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149720"/>
            <a:ext cx="646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Но счастливо ж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одному невозмо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 rot="19720800">
            <a:off x="3924360" y="3141720"/>
            <a:ext cx="4930560" cy="2436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2920" y="1484280"/>
            <a:ext cx="4038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У меня есть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У меня есть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У меня есть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У меня есть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А у них есть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761600">
            <a:off x="5292720" y="3357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>
            <a:off x="250920" y="4421160"/>
            <a:ext cx="8713800" cy="243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мья.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мейные ценности, традиции и реликв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6360" y="3499920"/>
            <a:ext cx="347796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Узнать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Обсудить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>
            <a:off x="826920" y="2637000"/>
            <a:ext cx="5186520" cy="1449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ем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Семья – это родные люди, живущие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084360" y="270828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2000" y="184464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Семья – это самые близкие и дорогие люди, наша опора на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458136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Семья – группа людей, состоящая из  родителей, детей, внуков и ближних родственников, живущих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арь Д. Н. Уш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16360" y="1052640"/>
            <a:ext cx="396576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июля – день памяти святых благоверных Петра и Февр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июля – День семьи, любви и ве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8 июля - день памяти благоверных князей Петра и Февронии, Муромских  чудотворцев"/>
          <p:cNvPicPr/>
          <p:nvPr/>
        </p:nvPicPr>
        <p:blipFill>
          <a:blip r:embed="rId2"/>
          <a:stretch/>
        </p:blipFill>
        <p:spPr>
          <a:xfrm>
            <a:off x="179280" y="404640"/>
            <a:ext cx="48405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Детский сад №2 «Буратино» | Главная"/>
          <p:cNvPicPr/>
          <p:nvPr/>
        </p:nvPicPr>
        <p:blipFill>
          <a:blip r:embed="rId2"/>
          <a:stretch/>
        </p:blipFill>
        <p:spPr>
          <a:xfrm>
            <a:off x="284040" y="4076640"/>
            <a:ext cx="8859960" cy="2781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мейные ц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43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По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Довер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27280" y="475920"/>
            <a:ext cx="46087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вянские обере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ᐈ Кукла-мотанка &amp;quot;Берегиня&amp;quot; льняная нить, рост 15-26см. ᐈ Днепр 75 ГРН -  Подарки для дома на OBYAVA.ua™ №1045556"/>
          <p:cNvPicPr/>
          <p:nvPr/>
        </p:nvPicPr>
        <p:blipFill>
          <a:blip r:embed="rId2"/>
          <a:stretch/>
        </p:blipFill>
        <p:spPr>
          <a:xfrm>
            <a:off x="2268360" y="1504800"/>
            <a:ext cx="6264360" cy="469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Солёное тесто для лепки поделки — рецепт и примеры | Мой Милый Дом - хенд  мейд идеи рукоделия и дизайна"/>
          <p:cNvPicPr/>
          <p:nvPr/>
        </p:nvPicPr>
        <p:blipFill>
          <a:blip r:embed="rId3"/>
          <a:stretch/>
        </p:blipFill>
        <p:spPr>
          <a:xfrm>
            <a:off x="2124000" y="148428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д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юб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спо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34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хоро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Наклейка PNG - AVATAN PLUS"/>
          <p:cNvPicPr/>
          <p:nvPr/>
        </p:nvPicPr>
        <p:blipFill>
          <a:blip r:embed="rId2"/>
          <a:stretch/>
        </p:blipFill>
        <p:spPr>
          <a:xfrm>
            <a:off x="468360" y="0"/>
            <a:ext cx="1382760" cy="160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Лист Зеленый - Бесплатная векторная графика на Pixabay"/>
          <p:cNvPicPr/>
          <p:nvPr/>
        </p:nvPicPr>
        <p:blipFill>
          <a:blip r:embed="rId3"/>
          <a:stretch/>
        </p:blipFill>
        <p:spPr>
          <a:xfrm>
            <a:off x="108000" y="1700280"/>
            <a:ext cx="1690560" cy="2246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Табак для кальяна Berrymix / Лесные ягоды / Adalya - купить в  интернет-магазине электронных сигарет Vape.Academy - доставка по  Санкт-Петербургу и России"/>
          <p:cNvPicPr/>
          <p:nvPr/>
        </p:nvPicPr>
        <p:blipFill>
          <a:blip r:embed="rId4"/>
          <a:stretch/>
        </p:blipFill>
        <p:spPr>
          <a:xfrm>
            <a:off x="4788000" y="1557360"/>
            <a:ext cx="2068560" cy="209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✓ Божья коровка - PNG #9 скачать клипарт бесплатно - Clipart-DB"/>
          <p:cNvPicPr/>
          <p:nvPr/>
        </p:nvPicPr>
        <p:blipFill>
          <a:blip r:embed="rId5"/>
          <a:stretch/>
        </p:blipFill>
        <p:spPr>
          <a:xfrm>
            <a:off x="4643280" y="260280"/>
            <a:ext cx="1452600" cy="164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Иконка ромашка - Png картинки и иконки без фона | Картинки, Иконки, Ромашки"/>
          <p:cNvPicPr/>
          <p:nvPr/>
        </p:nvPicPr>
        <p:blipFill>
          <a:blip r:embed="rId6"/>
          <a:stretch/>
        </p:blipFill>
        <p:spPr>
          <a:xfrm>
            <a:off x="2484360" y="2997360"/>
            <a:ext cx="1577880" cy="157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ира-скрап - клипарт и рамки на прозрачном фоне"/>
          <p:cNvPicPr/>
          <p:nvPr/>
        </p:nvPicPr>
        <p:blipFill>
          <a:blip r:embed="rId7"/>
          <a:stretch/>
        </p:blipFill>
        <p:spPr>
          <a:xfrm>
            <a:off x="179280" y="4581360"/>
            <a:ext cx="2051280" cy="176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8317080" y="5877000"/>
            <a:ext cx="591840" cy="592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Pin by Людмила on картинки детям | Illustration, Cartoon images, Cartoon"/>
          <p:cNvPicPr/>
          <p:nvPr/>
        </p:nvPicPr>
        <p:blipFill>
          <a:blip r:embed="rId9"/>
          <a:stretch/>
        </p:blipFill>
        <p:spPr>
          <a:xfrm>
            <a:off x="3995640" y="4365720"/>
            <a:ext cx="22320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3832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- что такое семейные тради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- что такое семейные реликв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Обсуд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- какими должны быть отношения между членами семь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ome</cp:lastModifiedBy>
  <dcterms:modified xsi:type="dcterms:W3CDTF">2021-10-07T16:25:27Z</dcterms:modified>
  <cp:revision>421</cp:revision>
  <dc:subject/>
  <dc:title>Diapositiva 1</dc:title>
</cp:coreProperties>
</file>